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224-E511-49BD-9FF6-929230AD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19C-535C-44B5-80FF-4F1689F7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DDE-8977-49A1-92ED-71360547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922-C38A-405B-BC60-CC0E4CCC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7E6-50BF-4AD7-B6B2-AF24C68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804-802A-4E78-833E-DD03E01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4A4-FF81-427F-8C38-F9CC732F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311-E76C-48E8-97B0-4E158C82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79-A08E-4E80-AC78-0DC16CE4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275-CA47-4415-9166-F7579CDF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AF7-45A2-4946-BB3C-BBD6B40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D55-7B0B-42D7-9D20-D326090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BC6D-9047-43A8-9147-C67763716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Systems of Equations and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-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5y = -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+ 3y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each metho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MUST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343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Equ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(x, y) where the two lines intersec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4956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Important Thing to Remember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s of Inequa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 need to find the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intersection regio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where the two lines cros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AutoShape 6"/>
          <p:cNvCxnSpPr/>
          <p:nvPr/>
        </p:nvCxnSpPr>
        <p:spPr>
          <a:xfrm>
            <a:off x="4419360" y="-360"/>
            <a:ext cx="1080" cy="708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sure PLOTS is 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t in eq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-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ENTER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324480" y="3352680"/>
            <a:ext cx="2819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 = -4x +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 = ½ 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y = ½ x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Graphin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n calculato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026040" y="2076480"/>
            <a:ext cx="2127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Quadrant is it in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&lt; 2x + 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 = -4x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Systems by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3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6x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1:28:28Z</dcterms:created>
  <dc:creator>Sharon Fieldman</dc:creator>
  <dc:description/>
  <dc:language>en-US</dc:language>
  <cp:lastModifiedBy>sfieldman</cp:lastModifiedBy>
  <cp:lastPrinted>2010-05-25T09:36:07Z</cp:lastPrinted>
  <dcterms:modified xsi:type="dcterms:W3CDTF">2011-05-16T14:49:53Z</dcterms:modified>
  <cp:revision>17</cp:revision>
  <dc:subject/>
  <dc:title>Goal 4.03: Systems of Equations</dc:title>
</cp:coreProperties>
</file>